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1A9-994F-4EA3-AD56-47921AE8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D1A-E983-458D-A6EF-CE3506ED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1EF-A949-4455-A43A-D4CFE8B6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701-6857-420B-8632-E1D64EF9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DC7-0A03-42ED-AEE8-93498AA9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F77-46DE-470F-8DE7-1B82B19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21F-FF94-4CEF-8C07-7CA9718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233-8556-482E-B95A-DBDCF43D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576-89D0-4543-816A-C488B0B8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E91-3D94-461F-848B-5D95819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586-AC4B-453D-A87C-675B6F1C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D12-9FDE-46DA-989F-E074AB21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1D83-AA71-4C55-A6A4-46E59896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Free-Response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1981080"/>
            <a:ext cx="4876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R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391520" y="3124080"/>
            <a:ext cx="15094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What Is the Free-Respons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wo part essay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 – 1870 (one prior to 17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fter – 1870 (one after 19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wo questions in each group – select one from each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0 minutes to plan and write both ess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72400" y="1905120"/>
            <a:ext cx="10191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fill="hold"/>
                                  <p:tgtEl>
                                    <p:spTgt spid="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What Is the Free-Response Question?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 and 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outsid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 as long or in-depth as DB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ible 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ormation to support 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vidence, Evidence,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2819520"/>
            <a:ext cx="24829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4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Question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st FR Essays ask you to analyze, assess or evaluate cause an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ssess the impact of any THREE of the following on the United States’ decision to declare war on England in 181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Embargo Act of 18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merica’s desire for Wester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merica’s military prepare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ow were the lives of the Plains Indians in the second half of the nineteenth century affected by technological developments and government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492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Ques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what ways did economic conditions and developments in the arts and entertainment help create the reputation of the 1920’s as the Roaring Twen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How do you account for the appeal of McCarthyism in the United States in the era following the Second World War?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31040" y="5410080"/>
            <a:ext cx="12034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Which Questions to Cho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one you know most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 the easiest at first g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ore you know about the subject, the better the final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600" y="4160880"/>
            <a:ext cx="396252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How to Write the Ess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 the question thorough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alyze and breakdown the qu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ircle and/or underline important words and phr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eate a grid, cluster, chart or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0400" y="4714920"/>
            <a:ext cx="3048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How to Write the Ess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sess information and devise a 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ick outline (if you have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ening paragraph which includes an opening statement, restating the question, your opinion on the question and you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lit time between both essays (35 minu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clearly and nea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vidence, Evidence,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29440" y="4648320"/>
            <a:ext cx="17510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2" dur="1" fill="hold"/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01:21Z</dcterms:created>
  <dc:creator>Matt Tassinari</dc:creator>
  <dc:description/>
  <dc:language>en-US</dc:language>
  <cp:lastModifiedBy> </cp:lastModifiedBy>
  <dcterms:modified xsi:type="dcterms:W3CDTF">2007-07-22T18:55:58Z</dcterms:modified>
  <cp:revision>24</cp:revision>
  <dc:subject/>
  <dc:title>PowerPoint Presentation</dc:title>
</cp:coreProperties>
</file>